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7049-4CA2-4DE2-88A6-92C742BF2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E171-2662-4004-AA70-90FCD3F7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2859-A56C-46C1-9528-DA7309B53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CED4-1FC1-4F29-B811-BF5163417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FBAF-D2C7-43E0-ADF5-6A422A0CD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2F35-DBA3-424A-A0B3-C82FE566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38D6-105F-4334-836D-1AD0425C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5CFF-CF35-474F-8BA4-B9B8841C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B2ED-AB60-433D-A32C-77ED26BD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42B8-71CC-4CFA-9B55-3328118E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C584-F3B5-4FA2-A0A0-C764583F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E7F3-4D0B-457B-8F72-4AD9ACE2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5F58-8BF1-47B0-AC83-51B2E38B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188C-07FE-4EC3-87B1-75DDED5A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69F6-8DFB-445F-9E0C-68EBEED5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0F47-DFCC-4A1A-BF97-DB3B7CB1A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DCD3-3B87-45AC-A7D7-2528BC72E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56AC4-FDAD-4A98-B87E-83F310C2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F0F37-577E-47E9-90E0-D54F22DD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7E98D-4C34-40B9-A2C3-62C05A23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55DC3-1545-4E4F-A9C2-5D8428B0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0412A-D197-45F6-A718-60AE7D53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C866-C0EC-4A1A-AED1-7328FE4B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F2D73-1AFB-4FC0-841A-7756041A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914F9-0513-49AC-A7D2-9BB61608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5A331-5395-4B13-9E0B-A2411D7D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FC627-A5AA-46DF-B18D-6CBA6B23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51B6A-2CCB-4C0A-AB4E-B45FB856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CA0B9-FA50-4924-AF0A-434642E72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EF839-B97C-4C30-AAAF-83DCA017B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0876A-C558-445E-B6EC-F103B53C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64A58-4DDC-4998-9C7C-8EA70464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BB362-456F-448D-A346-933D7F60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BE14-2D96-4D20-9017-7D4DA014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07B61-3091-4A60-8654-C6F78264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23627-6632-45D5-8991-37B2AAA9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2E9F9-5C32-4429-936B-9D5E81BE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26D8E-243D-4A49-B4CC-6D308C06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E3C4E-3B66-4754-898B-2121A88E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35C78-AAC9-4EB6-BC3B-6E2BE42A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F975D-3929-4EEC-B310-566F28DA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0A184-32E4-4C0F-A219-E45153A93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7FBF0-7410-4318-A269-E1B6FCCFF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890B3-CA97-4337-A406-405C93706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A74A-EB9C-4F36-AB63-8DE86947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3985D-B738-48AE-B19E-43463B74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251DA-4107-4DDD-8BF5-15FB9C0C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CD032-481E-4103-960C-A06B2B0C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BE5E7-A326-4D37-BA5A-E02A2E13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D331A-1428-4B9D-91F7-A78A6630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07CF2-4BBC-4164-91E2-01C53D1E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FE5DF-AF49-4AE9-A96C-B355F631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890E0-B4D1-4AF8-A5E9-48D44B6F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F9DDF-0A23-4EE0-A020-CF132468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00F51-424C-40F1-AD51-C9D861886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3B3D-FDF1-4478-BBA3-3FEC9FAE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3F2EC-953F-466D-A68B-18D30B01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6F52-5922-4D6E-AD9C-B4DF6C9C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0E56-AEE6-461B-9148-178D3694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C7F6-51F5-4755-9E9F-C8F3E427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9606-CC80-4706-9CB3-81C1624426F0}" type="slidenum"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d6452"/>
                </a:solidFill>
                <a:latin typeface="Book Antiqu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47E0-7672-4B6C-8136-27B02341AB23}" type="slidenum">
              <a:rPr b="0" lang="en-US" sz="1100" spc="-1" strike="noStrike">
                <a:solidFill>
                  <a:srgbClr val="6d6452"/>
                </a:solidFill>
                <a:latin typeface="Book Antiqu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56BD-0534-4B4A-B7DB-8AC29FC4E1AA}" type="slidenum"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traight Connector 6"/>
          <p:cNvSpPr/>
          <p:nvPr/>
        </p:nvSpPr>
        <p:spPr>
          <a:xfrm>
            <a:off x="503280" y="2352600"/>
            <a:ext cx="3840120" cy="1800"/>
          </a:xfrm>
          <a:prstGeom prst="line">
            <a:avLst/>
          </a:prstGeom>
          <a:ln w="6480">
            <a:solidFill>
              <a:srgbClr val="c6b1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124" name="Straight Connector 7"/>
          <p:cNvSpPr/>
          <p:nvPr/>
        </p:nvSpPr>
        <p:spPr>
          <a:xfrm>
            <a:off x="4805280" y="2352600"/>
            <a:ext cx="3840120" cy="1800"/>
          </a:xfrm>
          <a:prstGeom prst="line">
            <a:avLst/>
          </a:prstGeom>
          <a:ln w="6480">
            <a:solidFill>
              <a:srgbClr val="c6b1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C517-5829-40CC-B876-71EC9B4FBF23}" type="slidenum"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d6452"/>
                </a:solidFill>
                <a:latin typeface="Book Antiqu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12D6-C341-4A3A-8146-EE983A4D7903}" type="slidenum">
              <a:rPr b="0" lang="en-US" sz="1100" spc="-1" strike="noStrike">
                <a:solidFill>
                  <a:srgbClr val="6d6452"/>
                </a:solidFill>
                <a:latin typeface="Book Antiqu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3" descr="21_01HumanAndChimp-L.jpg"/>
          <p:cNvPicPr/>
          <p:nvPr/>
        </p:nvPicPr>
        <p:blipFill>
          <a:blip r:embed="rId1"/>
          <a:stretch/>
        </p:blipFill>
        <p:spPr>
          <a:xfrm>
            <a:off x="1600200" y="2133720"/>
            <a:ext cx="5791320" cy="4394160"/>
          </a:xfrm>
          <a:prstGeom prst="rect">
            <a:avLst/>
          </a:prstGeom>
          <a:ln w="0">
            <a:noFill/>
          </a:ln>
        </p:spPr>
      </p:pic>
      <p:pic>
        <p:nvPicPr>
          <p:cNvPr id="208" name="Title 1" descr=""/>
          <p:cNvPicPr/>
          <p:nvPr/>
        </p:nvPicPr>
        <p:blipFill>
          <a:blip r:embed="rId2"/>
          <a:stretch/>
        </p:blipFill>
        <p:spPr>
          <a:xfrm>
            <a:off x="493560" y="19080"/>
            <a:ext cx="8156880" cy="1485720"/>
          </a:xfrm>
          <a:prstGeom prst="rect">
            <a:avLst/>
          </a:prstGeom>
          <a:ln w="0">
            <a:noFill/>
          </a:ln>
        </p:spPr>
      </p:pic>
      <p:pic>
        <p:nvPicPr>
          <p:cNvPr id="209" name="Subtitle 2" descr=""/>
          <p:cNvPicPr/>
          <p:nvPr/>
        </p:nvPicPr>
        <p:blipFill>
          <a:blip r:embed="rId3"/>
          <a:stretch/>
        </p:blipFill>
        <p:spPr>
          <a:xfrm>
            <a:off x="493560" y="1352520"/>
            <a:ext cx="815688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Calibri"/>
              </a:rPr>
              <a:t>Genome Evolution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Duplication </a:t>
            </a:r>
            <a:r>
              <a:rPr b="0" lang="en-US" sz="3200" spc="-1" strike="noStrike">
                <a:solidFill>
                  <a:srgbClr val="6d6452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 genes with related functions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Genes diverge by accumulating mutations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Some become nonfunctional </a:t>
            </a:r>
            <a:r>
              <a:rPr b="0" i="1" lang="en-US" sz="3200" spc="-1" strike="noStrike">
                <a:solidFill>
                  <a:srgbClr val="6d6452"/>
                </a:solidFill>
                <a:latin typeface="Calibri"/>
              </a:rPr>
              <a:t>pseudogenes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Eventually, new genes with new functions can occur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Calibri"/>
              </a:rPr>
              <a:t>Multigene Familie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98600" y="1219320"/>
            <a:ext cx="814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Collections of 2 or more identical or very similar genes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Eg. hemoglobin: </a:t>
            </a:r>
            <a:r>
              <a:rPr b="0" lang="en-US" sz="3200" spc="-1" strike="noStrike">
                <a:solidFill>
                  <a:srgbClr val="6d6452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-globin and </a:t>
            </a:r>
            <a:r>
              <a:rPr b="0" lang="en-US" sz="3200" spc="-1" strike="noStrike">
                <a:solidFill>
                  <a:srgbClr val="6d6452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-globin gene families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234" name="Picture 4" descr="21_11bGeneFamilies-L.jpg"/>
          <p:cNvPicPr/>
          <p:nvPr/>
        </p:nvPicPr>
        <p:blipFill>
          <a:blip r:embed="rId1"/>
          <a:stretch/>
        </p:blipFill>
        <p:spPr>
          <a:xfrm>
            <a:off x="2819520" y="3352680"/>
            <a:ext cx="389880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12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2c24"/>
                </a:solidFill>
                <a:latin typeface="Book Antiqua"/>
              </a:rPr>
              <a:t>Illustrative Example:</a:t>
            </a:r>
            <a:br>
              <a:rPr sz="3200"/>
            </a:br>
            <a:r>
              <a:rPr b="1" lang="en-US" sz="3200" spc="-1" strike="noStrike">
                <a:solidFill>
                  <a:srgbClr val="660066"/>
                </a:solidFill>
                <a:latin typeface="Book Antiqua"/>
              </a:rPr>
              <a:t>Antifreeze Gene in Fish</a:t>
            </a:r>
            <a:endParaRPr b="0" lang="en-US" sz="32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98600" y="1294920"/>
            <a:ext cx="8146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d6452"/>
                </a:solidFill>
                <a:uFillTx/>
                <a:latin typeface="Book Antiqua"/>
              </a:rPr>
              <a:t>Antifreeze proteins (AFP): </a:t>
            </a:r>
            <a:r>
              <a:rPr b="0" lang="en-US" sz="2400" spc="-1" strike="noStrike">
                <a:solidFill>
                  <a:srgbClr val="6d6452"/>
                </a:solidFill>
                <a:latin typeface="Book Antiqua"/>
              </a:rPr>
              <a:t>produced by vertebrates,  plants, fungi, bacteria to aid survival in sub-zero environments</a:t>
            </a:r>
            <a:endParaRPr b="0" lang="en-US" sz="24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d6452"/>
                </a:solidFill>
                <a:uFillTx/>
                <a:latin typeface="Book Antiqua"/>
              </a:rPr>
              <a:t>Function</a:t>
            </a:r>
            <a:r>
              <a:rPr b="0" lang="en-US" sz="2400" spc="-1" strike="noStrike">
                <a:solidFill>
                  <a:srgbClr val="6d6452"/>
                </a:solidFill>
                <a:latin typeface="Book Antiqua"/>
              </a:rPr>
              <a:t>: bind to ice crystals and prevent growth</a:t>
            </a:r>
            <a:endParaRPr b="0" lang="en-US" sz="24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d6452"/>
                </a:solidFill>
                <a:uFillTx/>
                <a:latin typeface="Book Antiqua"/>
              </a:rPr>
              <a:t>Antarctic fish</a:t>
            </a:r>
            <a:r>
              <a:rPr b="0" lang="en-US" sz="2400" spc="-1" strike="noStrike">
                <a:solidFill>
                  <a:srgbClr val="6d6452"/>
                </a:solidFill>
                <a:latin typeface="Book Antiqua"/>
              </a:rPr>
              <a:t>: old protein gene transformed into a new gene with new structure/function</a:t>
            </a:r>
            <a:endParaRPr b="0" lang="en-US" sz="24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6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d6452"/>
                </a:solidFill>
                <a:latin typeface="Book Antiqua"/>
              </a:rPr>
              <a:t>Gene mutates </a:t>
            </a:r>
            <a:r>
              <a:rPr b="0" lang="en-US" sz="2400" spc="-1" strike="noStrike">
                <a:solidFill>
                  <a:srgbClr val="6d6452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6d6452"/>
                </a:solidFill>
                <a:latin typeface="Book Antiqua"/>
              </a:rPr>
              <a:t> duplicated </a:t>
            </a:r>
            <a:r>
              <a:rPr b="0" lang="en-US" sz="2400" spc="-1" strike="noStrike">
                <a:solidFill>
                  <a:srgbClr val="6d6452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6d6452"/>
                </a:solidFill>
                <a:latin typeface="Book Antiqua"/>
              </a:rPr>
              <a:t> divergent evolution </a:t>
            </a:r>
            <a:endParaRPr b="0" lang="en-US" sz="24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237" name="Picture 6" descr="http://images.sciencedaily.com/2011/01/110112122511.jpg"/>
          <p:cNvPicPr/>
          <p:nvPr/>
        </p:nvPicPr>
        <p:blipFill>
          <a:blip r:embed="rId1"/>
          <a:stretch/>
        </p:blipFill>
        <p:spPr>
          <a:xfrm>
            <a:off x="5943600" y="4800600"/>
            <a:ext cx="2857680" cy="17715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Antarctic icefish"/>
          <p:cNvPicPr/>
          <p:nvPr/>
        </p:nvPicPr>
        <p:blipFill>
          <a:blip r:embed="rId2"/>
          <a:stretch/>
        </p:blipFill>
        <p:spPr>
          <a:xfrm>
            <a:off x="3200400" y="4800600"/>
            <a:ext cx="2592360" cy="17240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0" descr="Christina Cheng"/>
          <p:cNvPicPr/>
          <p:nvPr/>
        </p:nvPicPr>
        <p:blipFill>
          <a:blip r:embed="rId3"/>
          <a:stretch/>
        </p:blipFill>
        <p:spPr>
          <a:xfrm>
            <a:off x="762120" y="4876920"/>
            <a:ext cx="220968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2280" y="93600"/>
            <a:ext cx="8763120" cy="74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2c24"/>
                </a:solidFill>
                <a:latin typeface="Calibri"/>
              </a:rPr>
              <a:t>Transpositions </a:t>
            </a:r>
            <a:r>
              <a:rPr b="0" lang="en-US" sz="3200" spc="-1" strike="noStrike">
                <a:solidFill>
                  <a:srgbClr val="302c24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302c24"/>
                </a:solidFill>
                <a:latin typeface="Calibri"/>
              </a:rPr>
              <a:t> chromosomal rearrangements</a:t>
            </a:r>
            <a:endParaRPr b="0" lang="en-US" sz="3200" spc="-1" strike="noStrike">
              <a:solidFill>
                <a:srgbClr val="302c24"/>
              </a:solidFill>
              <a:latin typeface="Book Antiqua"/>
            </a:endParaRPr>
          </a:p>
        </p:txBody>
      </p:sp>
      <p:pic>
        <p:nvPicPr>
          <p:cNvPr id="241" name="Picture 4" descr="21_12aRelatedMammalChrom-L.jpg"/>
          <p:cNvPicPr/>
          <p:nvPr/>
        </p:nvPicPr>
        <p:blipFill>
          <a:blip r:embed="rId1"/>
          <a:stretch/>
        </p:blipFill>
        <p:spPr>
          <a:xfrm>
            <a:off x="228600" y="1523880"/>
            <a:ext cx="3581280" cy="4481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42" name="Picture 5" descr="21_12bRelatedMammalChrom-L.jpg"/>
          <p:cNvPicPr/>
          <p:nvPr/>
        </p:nvPicPr>
        <p:blipFill>
          <a:blip r:embed="rId2"/>
          <a:stretch/>
        </p:blipFill>
        <p:spPr>
          <a:xfrm>
            <a:off x="4038480" y="2362320"/>
            <a:ext cx="4900680" cy="3193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2c24"/>
                </a:solidFill>
                <a:latin typeface="Book Antiqua"/>
              </a:rPr>
              <a:t>Transposable elements contribute to evolution</a:t>
            </a:r>
            <a:endParaRPr b="0" lang="en-US" sz="4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Promote recombination, disrupt genes or control elements, &amp; carry genes to new locations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May be harmful or lethal, but can also have small beneficial effects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Provides raw material for natural selection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14716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2c24"/>
                </a:solidFill>
                <a:latin typeface="Book Antiqua"/>
              </a:rPr>
              <a:t>Evolutionary Development</a:t>
            </a:r>
            <a:br>
              <a:rPr sz="4000"/>
            </a:br>
            <a:r>
              <a:rPr b="0" lang="en-US" sz="4000" spc="-1" strike="noStrike">
                <a:solidFill>
                  <a:srgbClr val="302c24"/>
                </a:solidFill>
                <a:latin typeface="Book Antiqua"/>
              </a:rPr>
              <a:t>(Evo-devo)</a:t>
            </a:r>
            <a:endParaRPr b="0" lang="en-US" sz="4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15235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2001"/>
              </a:spcBef>
              <a:buClr>
                <a:srgbClr val="6d6452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d6452"/>
                </a:solidFill>
                <a:latin typeface="Book Antiqua"/>
              </a:rPr>
              <a:t>Compares developmental processes to understand how changes can lead to evolution of organisms</a:t>
            </a:r>
            <a:endParaRPr b="0" lang="en-US" sz="28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247" name="Picture 3" descr="21_16ThreeDomainEvo-L.jpg"/>
          <p:cNvPicPr/>
          <p:nvPr/>
        </p:nvPicPr>
        <p:blipFill>
          <a:blip r:embed="rId1"/>
          <a:stretch/>
        </p:blipFill>
        <p:spPr>
          <a:xfrm>
            <a:off x="3657600" y="2590920"/>
            <a:ext cx="412920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56840" y="665280"/>
            <a:ext cx="814716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d6452"/>
                </a:solidFill>
                <a:uFillTx/>
                <a:latin typeface="Book Antiqua"/>
              </a:rPr>
              <a:t>Homeotic genes</a:t>
            </a:r>
            <a:r>
              <a:rPr b="0" lang="en-US" sz="3200" spc="-1" strike="noStrike">
                <a:solidFill>
                  <a:srgbClr val="6d6452"/>
                </a:solidFill>
                <a:latin typeface="Book Antiqua"/>
              </a:rPr>
              <a:t>: master regulatory genes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  <a:p>
            <a:pPr lvl="1" marL="813600" indent="-406800">
              <a:spcBef>
                <a:spcPts val="601"/>
              </a:spcBef>
              <a:buClr>
                <a:srgbClr val="a49a85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d6452"/>
                </a:solidFill>
                <a:latin typeface="Book Antiqua"/>
              </a:rPr>
              <a:t>Control placement and spatial organization of body parts</a:t>
            </a:r>
            <a:endParaRPr b="0" lang="en-US" sz="3000" spc="-1" strike="noStrike">
              <a:solidFill>
                <a:srgbClr val="6d6452"/>
              </a:solidFill>
              <a:latin typeface="Book Antiqu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d6452"/>
                </a:solidFill>
                <a:uFillTx/>
                <a:latin typeface="Book Antiqua"/>
              </a:rPr>
              <a:t>Homeobox</a:t>
            </a:r>
            <a:r>
              <a:rPr b="0" lang="en-US" sz="3200" spc="-1" strike="noStrike">
                <a:solidFill>
                  <a:srgbClr val="6d6452"/>
                </a:solidFill>
                <a:latin typeface="Book Antiqua"/>
              </a:rPr>
              <a:t>: widely conserved 180-nucleotide sequence within homeotic (Hox) genes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  <a:p>
            <a:pPr lvl="1" marL="813600" indent="-406800">
              <a:spcBef>
                <a:spcPts val="601"/>
              </a:spcBef>
              <a:buClr>
                <a:srgbClr val="a49a85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d6452"/>
                </a:solidFill>
                <a:latin typeface="Book Antiqua"/>
              </a:rPr>
              <a:t>Found in many groups (fungi, animals, plants)</a:t>
            </a:r>
            <a:endParaRPr b="0" lang="en-US" sz="3000" spc="-1" strike="noStrike">
              <a:solidFill>
                <a:srgbClr val="6d6452"/>
              </a:solidFill>
              <a:latin typeface="Book Antiqua"/>
            </a:endParaRPr>
          </a:p>
          <a:p>
            <a:pPr lvl="1" marL="813600" indent="-406800">
              <a:spcBef>
                <a:spcPts val="601"/>
              </a:spcBef>
              <a:buClr>
                <a:srgbClr val="a49a85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452"/>
                </a:solidFill>
                <a:latin typeface="Book Antiqua"/>
              </a:rPr>
              <a:t>Hints at relatedness between all life forms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429000" cy="597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02c24"/>
                </a:solidFill>
                <a:latin typeface="Calibri"/>
              </a:rPr>
              <a:t>Conservation of homeotic genes</a:t>
            </a:r>
            <a:endParaRPr b="0" lang="en-US" sz="3600" spc="-1" strike="noStrike">
              <a:solidFill>
                <a:srgbClr val="302c24"/>
              </a:solidFill>
              <a:latin typeface="Book Antiqua"/>
            </a:endParaRPr>
          </a:p>
        </p:txBody>
      </p:sp>
      <p:pic>
        <p:nvPicPr>
          <p:cNvPr id="250" name="Content Placeholder 3" descr="21_18_HomeoticGenes-L.jpg"/>
          <p:cNvPicPr/>
          <p:nvPr/>
        </p:nvPicPr>
        <p:blipFill>
          <a:blip r:embed="rId1"/>
          <a:stretch/>
        </p:blipFill>
        <p:spPr>
          <a:xfrm>
            <a:off x="4038480" y="457200"/>
            <a:ext cx="441972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Calibri"/>
              </a:rPr>
              <a:t>What you need to know: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e major goals of the Human Genome Projec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How prokaryotic genomes compare to eukaryotic genomes.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e activity and role of transposable elements and retrotransposons.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How evo-devo relates to our understanding of the evolution of genomes.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e role of homeotic genes and homeoboxes.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Calibri"/>
              </a:rPr>
              <a:t>Human Genome Project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d6452"/>
                </a:solidFill>
                <a:uFillTx/>
                <a:latin typeface="Calibri"/>
              </a:rPr>
              <a:t>Purpose</a:t>
            </a: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: to sequence the entire human genome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Completed in 2003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&gt;1,200 genomes sequenced now (1000 bacteria, 80 archaea, &amp; 124 eukaryotic species)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0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Calibri"/>
              </a:rPr>
              <a:t>Human Genome Project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pic>
        <p:nvPicPr>
          <p:cNvPr id="215" name="Picture 2" descr="21_02GenomeSequencing_4-L.jpg"/>
          <p:cNvPicPr/>
          <p:nvPr/>
        </p:nvPicPr>
        <p:blipFill>
          <a:blip r:embed="rId1"/>
          <a:stretch/>
        </p:blipFill>
        <p:spPr>
          <a:xfrm>
            <a:off x="1752480" y="1295280"/>
            <a:ext cx="556272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Calibri"/>
            </a:endParaRPr>
          </a:p>
        </p:txBody>
      </p:sp>
      <p:pic>
        <p:nvPicPr>
          <p:cNvPr id="217" name="Picture 4" descr="21_T01GenomeSizes-L.jpg"/>
          <p:cNvPicPr/>
          <p:nvPr/>
        </p:nvPicPr>
        <p:blipFill>
          <a:blip r:embed="rId1"/>
          <a:stretch/>
        </p:blipFill>
        <p:spPr>
          <a:xfrm>
            <a:off x="2508120" y="136440"/>
            <a:ext cx="412776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0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Calibri"/>
              </a:rPr>
              <a:t>Human DNA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56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d6452"/>
                </a:solidFill>
                <a:latin typeface="Book Antiqua"/>
              </a:rPr>
              <a:t>3 billion base pairs</a:t>
            </a:r>
            <a:endParaRPr b="0" lang="en-US" sz="28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d6452"/>
                </a:solidFill>
                <a:latin typeface="Book Antiqua"/>
              </a:rPr>
              <a:t>~20,000 genes</a:t>
            </a:r>
            <a:endParaRPr b="0" lang="en-US" sz="28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d6452"/>
                </a:solidFill>
                <a:latin typeface="Book Antiqua"/>
              </a:rPr>
              <a:t>Only 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1.5%</a:t>
            </a:r>
            <a:r>
              <a:rPr b="0" lang="en-US" sz="2800" spc="-1" strike="noStrike">
                <a:solidFill>
                  <a:srgbClr val="6d6452"/>
                </a:solidFill>
                <a:latin typeface="Book Antiqua"/>
              </a:rPr>
              <a:t> codes for proteins (or RNA)</a:t>
            </a:r>
            <a:endParaRPr b="0" lang="en-US" sz="28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Book Antiqua"/>
              </a:rPr>
              <a:t>Repetitive DNA</a:t>
            </a:r>
            <a:r>
              <a:rPr b="0" lang="en-US" sz="2800" spc="-1" strike="noStrike">
                <a:solidFill>
                  <a:srgbClr val="6d6452"/>
                </a:solidFill>
                <a:latin typeface="Book Antiqua"/>
              </a:rPr>
              <a:t>: sequences present in multiple copies</a:t>
            </a:r>
            <a:endParaRPr b="0" lang="en-US" sz="28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220" name="Picture 3" descr="21_07HumanDNATypes-L.jpg"/>
          <p:cNvPicPr/>
          <p:nvPr/>
        </p:nvPicPr>
        <p:blipFill>
          <a:blip r:embed="rId1"/>
          <a:stretch/>
        </p:blipFill>
        <p:spPr>
          <a:xfrm>
            <a:off x="4343400" y="1490760"/>
            <a:ext cx="4633920" cy="46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Calibri"/>
              </a:rPr>
              <a:t>Transposable Element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0520" y="1295280"/>
            <a:ext cx="8147160" cy="45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Make up 75% of repetitive DNA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  <a:p>
            <a:pPr marL="425160" indent="-42516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Can be moved from one location to another in genome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  <a:p>
            <a:pPr marL="425160" indent="-42516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Discovered by Barbara McClintock – corn breeding experiments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  <a:p>
            <a:pPr marL="425160" indent="-42516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2 Types: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  <a:p>
            <a:pPr lvl="1" marL="850320" indent="-425160">
              <a:lnSpc>
                <a:spcPct val="100000"/>
              </a:lnSpc>
              <a:spcBef>
                <a:spcPts val="6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ransposons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  <a:p>
            <a:pPr lvl="1" marL="850320" indent="-425160">
              <a:lnSpc>
                <a:spcPct val="100000"/>
              </a:lnSpc>
              <a:spcBef>
                <a:spcPts val="6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Retrotransposons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223" name="Picture 3" descr="21_08_McClintockCorn-L.jpg"/>
          <p:cNvPicPr/>
          <p:nvPr/>
        </p:nvPicPr>
        <p:blipFill>
          <a:blip r:embed="rId1"/>
          <a:stretch/>
        </p:blipFill>
        <p:spPr>
          <a:xfrm>
            <a:off x="5181480" y="3962520"/>
            <a:ext cx="355140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8600" y="93600"/>
            <a:ext cx="814680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Calibri"/>
              </a:rPr>
              <a:t>Transpos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98600" y="1066680"/>
            <a:ext cx="81468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Moves within genome via DNA intermediate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cut &amp; paste” or “copy &amp; paste” mechanisms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Requires enzym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transposase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226" name="Picture 3" descr="21_09TransposonMovement-L.jpg"/>
          <p:cNvPicPr/>
          <p:nvPr/>
        </p:nvPicPr>
        <p:blipFill>
          <a:blip r:embed="rId1"/>
          <a:stretch/>
        </p:blipFill>
        <p:spPr>
          <a:xfrm>
            <a:off x="1295280" y="3429000"/>
            <a:ext cx="68709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8600" y="93600"/>
            <a:ext cx="8146800" cy="8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Calibri"/>
              </a:rPr>
              <a:t>Retrotranspos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98600" y="1066680"/>
            <a:ext cx="81468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Move by means of RNA intermediate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  <a:p>
            <a:pPr marL="514440" indent="-51444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Leaves copy at original site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  <a:p>
            <a:pPr marL="514440" indent="-51444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Involves enzym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reverse transcriptase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229" name="Picture 3" descr="21_10RetrotransposonMove-L.jpg"/>
          <p:cNvPicPr/>
          <p:nvPr/>
        </p:nvPicPr>
        <p:blipFill>
          <a:blip r:embed="rId1"/>
          <a:stretch/>
        </p:blipFill>
        <p:spPr>
          <a:xfrm>
            <a:off x="1828800" y="3273480"/>
            <a:ext cx="541008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06:36:49Z</dcterms:created>
  <dc:creator>Chris Nancy Chou</dc:creator>
  <dc:description/>
  <dc:language>en-US</dc:language>
  <cp:lastModifiedBy>Chris Nancy Chou</cp:lastModifiedBy>
  <dcterms:modified xsi:type="dcterms:W3CDTF">2013-01-28T08:01:16Z</dcterms:modified>
  <cp:revision>9</cp:revision>
  <dc:subject/>
  <dc:title>Chapter 21</dc:title>
</cp:coreProperties>
</file>